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F92A-7437-4320-A09B-25E2A2E21B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76D3-1BC4-4B4A-9D83-9635EC2A19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87B-1B64-41B7-8F3D-9A72A682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39E-4BDC-4DDF-8402-B918670E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EF0-6FBB-4DE9-845B-448E3AA8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7D4B-0FDD-478A-9958-89E80983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3D5E-2829-46F3-8949-7E124C47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81C6-D637-487A-8B67-1ECDDAD9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BF3F-66DE-46CF-8FF7-58109853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99B1-BA76-4077-BC76-A35D9CA3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0682-7ABA-4DB3-A9B3-D0794A5C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4C00-A2D3-4194-BEA4-E451DD73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1108-5AE0-4556-8780-A5D0D118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062-A984-42B2-9F2E-58BAFF72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F375-8897-4A71-B488-0B84451E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CA0A-1FBE-4DAB-A53E-927E0B74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73D4-778D-4B5E-A96C-DD582B4C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9B36-B7A2-4C2A-A591-B6A73C0E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FB0A-DF32-438B-81DA-00B3E011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14913-85FC-4C7C-96F5-63FF09D1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A936B-6805-4500-A5B2-8E49D591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BF9DF-3DE1-446E-98A6-0508E4A5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EAE15-849E-47C6-95B3-2E76234F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96FD1-72E4-4914-B115-F69E0C86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1FE-57AD-4899-9575-2D710FFE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0D08D-7A07-4617-8D22-9A5ADFA5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DC042-9B4B-407F-8104-F136C481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8BA96-D3F0-4207-9744-24F0F1B9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9D692-3423-4217-BB18-D8AB411F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0B37D-112D-4954-80F8-D010F854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11800-F8EC-419E-9D4D-6DC5E3D6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0005B-8EAC-479B-97DB-E3B70807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D4E84-BAFB-4FB6-AFF3-C16BF345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2CC31-0130-4256-8EB2-F4844E1B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B0BA1-2550-4ACF-855B-B3C3763C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AC79-FB4B-4A9F-A534-42A8ACFF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F1F6E-8306-4EE0-A7CB-48B0B474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3DB58-1BCE-4521-9127-4A50B582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C0B53-0AD7-48A9-9ABF-7CBB1748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26498-59A5-45C9-B315-2DDFBC49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E18BE-2E1B-4215-A141-2FC8395B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6A5D4-031D-432D-BF19-DAD4D08B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FE565-C14D-4AC3-B449-D53CB340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EDDCF-6AB9-492E-81C5-BBD026B6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7863F-DD98-4BE7-A8E9-033330D9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FE950-8250-474A-816C-907B0352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095-3681-4A84-8FEE-0DC472D9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8B8DE-84AF-4911-9D33-D9EA2A2E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F2069-0718-46A5-A655-92198BA5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BB6A7-E09D-4E51-8D58-B2F07112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8217B-B511-4966-96A4-F3999224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85F83-BAD1-48FD-8F70-B0F6D525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D421B-B86E-4469-97CA-21A8B2EB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1FEF5-2599-4577-A36E-423A2B63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3B7D5-5DB7-41A9-8CBB-FBDC5E6C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105A2-E25E-429F-AF88-318F84EF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BF9F9-5589-45AF-A8E5-BC2979B2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3F7-9DD4-491C-9819-C43462F0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81C83-03B0-4156-ABDB-F8477C09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0EB48-31BC-4851-93FF-8AB8B68D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7D704-A9B9-400B-968C-040E2C54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78385-FAA8-4B7E-BC06-7B8CCC00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6910E-67E3-4D15-BCA1-9F41956E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71FBD-174D-41B1-8AF1-8490FF36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E150C-47D5-4145-AED0-C8DFF7F9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267E6-28BA-412A-A3C7-8F10859D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20084-6E1D-4E97-9D96-035900C4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7BD60-72DD-4D20-9D90-5BBD2AF1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759-590F-463B-AE3F-8B698B66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B1744-B5CC-4944-BAF0-3A99041B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E9A71-11F6-4066-8ED8-C4EBA1BD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3DAFE-E368-4008-83C2-B10E0BEA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DD054-8A26-4126-AF35-9E06755F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0016B-A403-4DE8-A1E6-749281B8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920AE-628B-402F-94CC-BBC52BA1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9A6EE-964F-49AF-AC45-6F04E5A4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5D17A-8B36-4DC6-8048-EB6306A7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2A7FD-8C23-4347-A35A-99D4AF59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01247-564F-415F-8729-EA7A6190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C24E-BB01-4EBE-9EBC-B51DD109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8AB03-EBF9-4460-A35B-85357A80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87A1B-4D34-452D-B881-4A449400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C389C-728D-472F-B882-111070C0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8AB9A-C506-4243-8AB7-A26D5D65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153A2-9B7A-4552-BD5A-95538084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662CA-A431-443F-BFDB-CCFEA015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D213A-FD89-496D-BEAD-71E29621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655D4-069C-4A12-BE63-268A142F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D619B-ACA2-428D-AE37-48CD8741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22A63-6223-4E3B-A04E-DF7677B0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6618-5881-40C2-A160-A3D16EAB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5AE8A-793D-4281-A44E-22E77092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001E6-2E15-4B55-A6BE-6DB9ABC9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5D191-0272-4C7C-8931-304DE941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9172D-361B-4C38-95C2-A9494970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E706D-6452-49B0-9592-15C161C4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ED844-AE15-4AF7-B9A9-81543BC0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05983-1EC5-444C-B6F7-13EC7202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DD8C-E9FE-4704-8499-FAF77829EF17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7" descr="HHD12_bnr.jpg"/>
          <p:cNvPicPr/>
          <p:nvPr/>
        </p:nvPicPr>
        <p:blipFill>
          <a:blip r:embed="rId4"/>
          <a:stretch/>
        </p:blipFill>
        <p:spPr>
          <a:xfrm>
            <a:off x="0" y="0"/>
            <a:ext cx="75596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ight Triangle 1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0" name="Freeform 18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9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Freeform 20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3" name="Freeform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" name="Straight Connector 22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64D1-887B-4669-9ADC-1F7F764C45F0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HHD12_bnr.jpg"/>
          <p:cNvPicPr/>
          <p:nvPr/>
        </p:nvPicPr>
        <p:blipFill>
          <a:blip r:embed="rId5"/>
          <a:stretch/>
        </p:blipFill>
        <p:spPr>
          <a:xfrm>
            <a:off x="0" y="0"/>
            <a:ext cx="7559640" cy="666720"/>
          </a:xfrm>
          <a:prstGeom prst="rect">
            <a:avLst/>
          </a:prstGeom>
          <a:ln w="0">
            <a:noFill/>
          </a:ln>
        </p:spPr>
      </p:pic>
      <p:sp>
        <p:nvSpPr>
          <p:cNvPr id="104" name="Chevron 15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hevron 16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5831-78CD-40F2-8242-A48BCD9814AE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HHD12_bnr.jpg"/>
          <p:cNvPicPr/>
          <p:nvPr/>
        </p:nvPicPr>
        <p:blipFill>
          <a:blip r:embed="rId5"/>
          <a:stretch/>
        </p:blipFill>
        <p:spPr>
          <a:xfrm>
            <a:off x="0" y="0"/>
            <a:ext cx="7559640" cy="666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F3FE-B130-41A6-B56A-FE2AA73D1664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B8F2-FBF7-4F6A-8B13-213459408BA3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HHD12_bnr.jpg"/>
          <p:cNvPicPr/>
          <p:nvPr/>
        </p:nvPicPr>
        <p:blipFill>
          <a:blip r:embed="rId5"/>
          <a:stretch/>
        </p:blipFill>
        <p:spPr>
          <a:xfrm>
            <a:off x="0" y="0"/>
            <a:ext cx="7559640" cy="6667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3FCD-2E48-4D06-801B-6EC2B296179F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404D-A72D-4A12-B908-2EF33F06E1D1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6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Right Triangle 18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8" name="Right Triangle 18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Straight Connector 19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31" name="Chevron 20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Chevron 2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60D3-B611-422E-B224-7EF554931F94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259840" cy="22003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in function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orms hard structure of bones and teeth; regulates contraction and relaxation of muscles; assists in blood clotting; transmits nerve impulse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in source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ilk and milk products, green leafy vegetables, tofu and soy bean products, fish with edible bones such as tinned tuna, nuts and seed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21276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in function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ssential component of haemoglobin – the pigment that gives blood its red colou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ormation of red blood cel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d meat, chicken, seafoo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olegrain breads and cereals, legumes, dark green leafy vegetable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21276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s are also micronutrients, they inclu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itamin 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itamin 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itamin 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-group vitamins such as thiamin, riboflavin, niacin and vitamin B12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212760" y="622440"/>
            <a:ext cx="848664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457200" y="1481040"/>
          <a:ext cx="8229600" cy="3205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ood 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3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althy 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althy s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sistance to in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intaining the mucous membranes that line the respiratory, gastrointestinal and urinary tracts as well as the mouth nose and 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rmal growth of children, particularly teeth and bon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nimal sources such as liver, oily fish, full-cream milk, egg yolk and che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range and green fruit and vegetables such as carrots, spinach, broccoli, pumpkin, mango and aprico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21276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457200" y="1481040"/>
          <a:ext cx="8229600" cy="2382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ood 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bsorption and metabolism of calcium and phosphorous to assist the formation of bones and tee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ll growth and develo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althy functioning of the nervous system and the immune system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ish, especially fish with a high fat content, such as sardines and sal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at, eggs and dairy products, including bu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ortified foods, such as margar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212760" y="47628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457200" y="1481040"/>
          <a:ext cx="8229600" cy="4029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ood 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ormation of collagen, the connective tissue in skin, ligaments and b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romoting the healing of wou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bsorption of iron / formation of red blood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reventing haemorrhaging and bleeding g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ighting infection by maintaining white blood cells, which act as bacteria fight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he production of thyroxin, a hormone involved in metabolis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ruit and vegetables such as: blackcurants, oranges, mangoes, pineapples, grapefruit, kiwi fruit, raspberries, capsicums, potatoes, broccoli and spin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212760" y="47628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457200" y="1481040"/>
          <a:ext cx="8229600" cy="3205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ood 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3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rmal functioning of nerve cel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uscle to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ortified breakfast cere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yeast extracts (vegemite and marmi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kidne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ean p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holemeal b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esame s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21276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457200" y="1481040"/>
          <a:ext cx="8229600" cy="2930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ood 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althy skin and eyes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volved in the production of red blood cel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yeast extracts (vegemite and marmi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ean red m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hick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lk and milk produ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g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holegrain breads and cere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21276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457200" y="1481040"/>
          <a:ext cx="8229600" cy="2382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ood 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lood circu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ducing cholesterol levels in the bl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mportant for maintaining healthy digestive tra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yeast extracts (vegemite and marmi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holegrain breads and cere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ortified breakfast cere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is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gg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21276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457200" y="1481040"/>
          <a:ext cx="8229600" cy="1833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ood 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tabolism of 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roduction of red blood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velopment of the nervous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ean red m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is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hic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holegrain breads and cere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212760" y="47628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e of the key behavioural determinants that affects the health and development of Australia’s youth is food inta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Nutrition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is the process of eating to nourish our bodies. It is also the scientific study of why we e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21276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457200" y="1481040"/>
          <a:ext cx="8229600" cy="2657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ood 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2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ormation of red blood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ormation of nerve cells and DNA genetic 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tabolism of carbohydrates and fa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kidn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yst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is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eaf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gg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l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212760" y="476280"/>
            <a:ext cx="88218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understand how food affects health and development of youth, it is important to look a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nutrien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how they work (function) and the foods they are found in (sourc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Nutrient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are the chemical components of food; they are required by living thing to maintain lif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ere are many different types of nutrient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212760" y="622440"/>
            <a:ext cx="848664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any different types of nutrients can be classified into two main form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acronutrien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Needed by the body in large quantities – proteins, carbohydrates, fats and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icronutrien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Needed by the body in relatively small amounts – vitamins and mineral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21276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in function: build, grow and repair ce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de up of smaller units called amino ac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ified as either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complet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r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incomplet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epending on composition of amino ac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od sources include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mplete: meat, chicken, cheese, eggs, milk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complete: rice, legumes, nuts, vegetable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212760" y="47628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ain function: provide energy or fuel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lassified a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monosaccharides,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disaccharides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or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polysaccharides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Food sources include: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onosaccharides: glucose and fructose found in honey and nut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isaccharides: sucrose and lactose found in sugar and milk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Polysaccharides: Starch found in rice and pasta and cellulose found in wholegrain breads and cereal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21276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Main function: Provide energy, provide insulation, supply fat-soluble vitamins and essential fatty acid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Classified as: saturated, trans, monounsaturated and polyunsaturated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Food sources includ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aturated: meat, butter, cream, coconut cream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Trans: hydrogenated vegetable fats, manufactured margarines, cakes and biscuits (also found naturally in smaller quantities in meat and dairy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Monounsaturated: olives, olive oil, avocado, nut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olyunsaturated:  some margarines, vegetable oils, oily fish such as salmon, tuna and sardine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13968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important nutrient of a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ssential for bodily functions, including: digestion, absorption, circulation, regulation of temperature, lubrication, transportation of nutrients, oxygen and was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urces: fresh water, fruit and vegetabl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21276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erals are micronutrients, two important minerals are calcium and ir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21276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2:29:01Z</dcterms:created>
  <dc:creator>charlesc1</dc:creator>
  <dc:description/>
  <dc:language>en-US</dc:language>
  <cp:lastModifiedBy>08470047</cp:lastModifiedBy>
  <dcterms:modified xsi:type="dcterms:W3CDTF">2011-03-20T22:59:44Z</dcterms:modified>
  <cp:revision>51</cp:revision>
  <dc:subject/>
  <dc:title>Slide 1</dc:title>
</cp:coreProperties>
</file>